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10FE-DCBF-48C3-B543-CF2534000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B2E6-A477-43F8-A31C-E057470BF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C1F7-34E5-4390-92C3-69FF81EAC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4192-B9D4-4A11-BCE9-FC178E7F7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8C1A-E99A-4006-BE29-06E36F58A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2C40-8C17-4FE2-9AA1-26393AC24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03A7-229B-48B0-A59E-BC91FE68E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7AC5-D557-4DA0-B2C8-9AA2842C6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E17D-78C2-49B1-B343-41B2C4A14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317D-CA3F-49E3-AFD2-EA7AC46DC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F63-D2E0-4D94-BEDA-1C07EB14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CF4-860A-44C1-A93B-5FD862E4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0AF-3D32-482B-99C5-72164BDD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87E-72C1-4100-BE14-B20F22D2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B83-17D5-4614-82DC-EAA52FDF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A1A3-E36B-4DE9-8908-96D819FF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12C-C471-4DB1-8749-5910A4C6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A99-9497-4E3E-949F-8B54E619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08E-1F6B-4A3D-A0F3-95C310FC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4A91-5963-4534-B016-C0DE7B94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3B0-0BA6-45B8-B660-D2888E78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0F6E-73CD-4058-8568-B18A25D9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EB2E-50B0-40C7-9397-B2B297C1B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OMOLECULES</a:t>
            </a:r>
            <a:br>
              <a:rPr sz="44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.k.a organic molecules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chemistr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9" descr="Sucrose_molecule_3d_model"/>
          <p:cNvPicPr/>
          <p:nvPr/>
        </p:nvPicPr>
        <p:blipFill>
          <a:blip r:embed="rId1"/>
          <a:stretch/>
        </p:blipFill>
        <p:spPr>
          <a:xfrm>
            <a:off x="2971800" y="3505320"/>
            <a:ext cx="30481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ucle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c polyme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de of (C, H, O, N, and Phosphorus (P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: DNA,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ilding blocks: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cleic acids = storage of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01-coll-dna-knoll-l"/>
          <p:cNvPicPr/>
          <p:nvPr/>
        </p:nvPicPr>
        <p:blipFill>
          <a:blip r:embed="rId1"/>
          <a:stretch/>
        </p:blipFill>
        <p:spPr>
          <a:xfrm>
            <a:off x="3733920" y="4419720"/>
            <a:ext cx="166212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GANIC MOLECULES contain carbon 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 can bond with a lot of different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can share one, two, or thre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ymer – large molecule that is a chain of smaller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olymer"/>
          <p:cNvPicPr/>
          <p:nvPr/>
        </p:nvPicPr>
        <p:blipFill>
          <a:blip r:embed="rId1"/>
          <a:stretch/>
        </p:blipFill>
        <p:spPr>
          <a:xfrm>
            <a:off x="2971800" y="3276720"/>
            <a:ext cx="278136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rbohyd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c molecul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de of C, H, and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ilding block: Monosaccharide – simple sug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. glucose and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bohydrat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ysaccharide – large carbohydrate composed of multiple mono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. starch, glycogen, cellu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rbs =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76320" y="4114800"/>
            <a:ext cx="8686800" cy="2135160"/>
            <a:chOff x="76320" y="4114800"/>
            <a:chExt cx="8686800" cy="2135160"/>
          </a:xfrm>
        </p:grpSpPr>
        <p:grpSp>
          <p:nvGrpSpPr>
            <p:cNvPr id="61" name="Group 10"/>
            <p:cNvGrpSpPr/>
            <p:nvPr/>
          </p:nvGrpSpPr>
          <p:grpSpPr>
            <a:xfrm>
              <a:off x="76320" y="4191120"/>
              <a:ext cx="6095880" cy="2041560"/>
              <a:chOff x="76320" y="4191120"/>
              <a:chExt cx="6095880" cy="2041560"/>
            </a:xfrm>
          </p:grpSpPr>
          <p:pic>
            <p:nvPicPr>
              <p:cNvPr id="62" name="Picture 5" descr="POTATO"/>
              <p:cNvPicPr/>
              <p:nvPr/>
            </p:nvPicPr>
            <p:blipFill>
              <a:blip r:embed="rId1"/>
              <a:stretch/>
            </p:blipFill>
            <p:spPr>
              <a:xfrm>
                <a:off x="76320" y="4267080"/>
                <a:ext cx="2590560" cy="190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7" descr="fatty_liver"/>
              <p:cNvPicPr/>
              <p:nvPr/>
            </p:nvPicPr>
            <p:blipFill>
              <a:blip r:embed="rId2"/>
              <a:stretch/>
            </p:blipFill>
            <p:spPr>
              <a:xfrm>
                <a:off x="2819520" y="4191120"/>
                <a:ext cx="3352680" cy="204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4" name="Picture 9" descr="CornPlant_Bush_L"/>
            <p:cNvPicPr/>
            <p:nvPr/>
          </p:nvPicPr>
          <p:blipFill>
            <a:blip r:embed="rId3"/>
            <a:stretch/>
          </p:blipFill>
          <p:spPr>
            <a:xfrm>
              <a:off x="6324480" y="4114800"/>
              <a:ext cx="2438640" cy="213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p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de mostly of C and H (with small amounts of 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: fats, oils, w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ilding blocks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tty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pids = energy storage, in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800px-NCI_butter"/>
          <p:cNvPicPr/>
          <p:nvPr/>
        </p:nvPicPr>
        <p:blipFill>
          <a:blip r:embed="rId1"/>
          <a:stretch/>
        </p:blipFill>
        <p:spPr>
          <a:xfrm>
            <a:off x="152280" y="4800600"/>
            <a:ext cx="2667240" cy="1776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7266434"/>
          <p:cNvPicPr/>
          <p:nvPr/>
        </p:nvPicPr>
        <p:blipFill>
          <a:blip r:embed="rId2"/>
          <a:stretch/>
        </p:blipFill>
        <p:spPr>
          <a:xfrm>
            <a:off x="365760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wesson"/>
          <p:cNvPicPr/>
          <p:nvPr/>
        </p:nvPicPr>
        <p:blipFill>
          <a:blip r:embed="rId3"/>
          <a:stretch/>
        </p:blipFill>
        <p:spPr>
          <a:xfrm>
            <a:off x="7526160" y="3657600"/>
            <a:ext cx="11080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, complex polyme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osed of C, H, O, Nitrogen (N), and sometimes Sulfur 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: enzymes, insulin, hemoglo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ilding blocks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mino acids are linked by peptid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tein = structure,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http://static.howstuffworks.com/gif/adam/images/en/active-vs-inactive-muscle-picture.jpg"/>
          <p:cNvPicPr/>
          <p:nvPr/>
        </p:nvPicPr>
        <p:blipFill>
          <a:blip r:embed="rId1"/>
          <a:srcRect l="0" t="12507" r="52008" b="4996"/>
          <a:stretch/>
        </p:blipFill>
        <p:spPr>
          <a:xfrm>
            <a:off x="304920" y="380880"/>
            <a:ext cx="2286000" cy="314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http://3.bp.blogspot.com/_MmHetZ5hXHs/Sf9Y9lhjeHI/AAAAAAAAB7g/x5Yu6cBbRVM/s400/iStock_whole+raw+chicken.jpg"/>
          <p:cNvPicPr/>
          <p:nvPr/>
        </p:nvPicPr>
        <p:blipFill>
          <a:blip r:embed="rId2"/>
          <a:stretch/>
        </p:blipFill>
        <p:spPr>
          <a:xfrm>
            <a:off x="5181480" y="762120"/>
            <a:ext cx="3810240" cy="2590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http://www.cipsm.de/en/publications/researchAreaF/2007/Biel_Function_and_Dysfunction_of_CNG_Channels/biel_anim.gif"/>
          <p:cNvPicPr/>
          <p:nvPr/>
        </p:nvPicPr>
        <p:blipFill>
          <a:blip r:embed="rId3"/>
          <a:stretch/>
        </p:blipFill>
        <p:spPr>
          <a:xfrm>
            <a:off x="2133720" y="3886200"/>
            <a:ext cx="40384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Arial"/>
              </a:rPr>
              <a:t>Protein</a:t>
            </a: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ZYME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a proteins that speed up chemical rx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y act as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cataly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y can be re-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ames of enzymes end in -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3:05:04Z</dcterms:created>
  <dc:creator>Mariel</dc:creator>
  <dc:description/>
  <dc:language>en-US</dc:language>
  <cp:lastModifiedBy> </cp:lastModifiedBy>
  <dcterms:modified xsi:type="dcterms:W3CDTF">2010-08-31T16:30:06Z</dcterms:modified>
  <cp:revision>10</cp:revision>
  <dc:subject/>
  <dc:title>Life Substances</dc:title>
</cp:coreProperties>
</file>